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03C-FF9D-43D8-9401-84536533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C84-3524-42B8-BA4E-EBFB9C6C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B99-495A-4D04-8DAD-4F77EA51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5FA-8410-4070-B94F-186AFF16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0726-2F2B-4770-A165-44936B31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C210-22F1-44F9-A1F7-3C87EDC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5B3A-06A0-4C37-B4FF-6A25301B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3339-E21B-4447-9EEA-9260D4A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24BE-5057-418F-8F93-B1C6DB75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9587-B0AE-486D-B78A-1E1FEFB0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E0D4-00EF-41B2-9387-F40FFAEC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6E4-8DAC-4621-88A6-F51D63AC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09F3-761A-4BAC-AD81-42B4BBC8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7613-C612-409A-8C2C-B712E7D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2C2-FF92-4C67-8C82-FC622E77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7735-8A07-440D-9C67-00F7FBF5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8751-8A3C-4321-A4DF-5BD4D68A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4D9-6F05-48FA-892B-6570112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212-9E50-4180-9E7A-9E5188A6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FA8-08F8-4BFF-99B5-349C010C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2F0-BE2D-4833-AD23-52A7143F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FF0-7EBF-44B4-89D1-1B31B33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6DE-A0C4-448B-A126-C789D58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06D-CAC2-4027-AF9D-B95ECD1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DD51-8851-4745-8BD3-17D501532D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0BDE-0CBD-40BB-8DA7-D91216B71E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676520" y="2057400"/>
            <a:ext cx="5867280" cy="22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ушка-зима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Что за нелепый человек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брался к нам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двадцатый век?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Морковкой нос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руке метла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Боится солнца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тепла?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Снеговик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00200" y="2438280"/>
            <a:ext cx="596268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ernard MT Condensed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empus Sans ITC"/>
              </a:rPr>
              <a:t>СНЕЖОК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Снежок порхает, кружится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На улице бело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И превратились лужицы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В холодное стекло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Где летом пели зяблики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Сегодня - посмотри! -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Как розовые яблоки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На ветках снегири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Снежок изрезан лыжами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Как мел, скрипуч и сух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И ловит кошка рыжая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empus Sans ITC"/>
              </a:rPr>
              <a:t>Веселых белых му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eaeaea"/>
                </a:solidFill>
                <a:latin typeface="Tw Cen MT Condensed Extra Bold"/>
              </a:rPr>
              <a:t>А какие месяцы считаются зимними?</a:t>
            </a:r>
            <a:endParaRPr b="0" lang="en-US" sz="5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"/>
              </a:rPr>
              <a:t>Декабр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94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"/>
              </a:rPr>
              <a:t>Январ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90212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Феврал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54380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"/>
              </a:rPr>
              <a:t>Загадки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Что за звёздочки сквозные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пальто и на платке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се сквозные, вырезные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возьмёшь - вода в руке?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Снежинки)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белом бархате деревня -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заборы, и деревья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как ветер нападёт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Этот бархат опадёт.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Иней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2-04-17T07:06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